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6C2-6FA4-456E-B342-523BC00D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3A0-C9FC-4E74-B0E4-98ED5619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7AB-EEF1-4947-8822-D1760285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681-D65F-4625-8F62-0CBCA5AD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334-7A6B-4EA1-B5F2-EA2BD07B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E03-45DE-4A72-BA8D-9C4FFCD2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C3D-75DB-42D5-A26C-E54531AA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D25-B69D-4433-9E2D-33D65F22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727-24BD-4B4B-AF68-E6AFBABE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22B-2999-4182-8DF1-F7C79E96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7DA-27C6-4394-8AF4-477785AF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07E-462D-46FC-BE81-AE7C6263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9273-3238-4A2F-B1D1-FFF793030B1E}" type="slidenum">
              <a:rPr b="0" lang="es-C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Calibri"/>
              </a:rPr>
              <a:t>¿Cómo entender la “Programación de computadoras” en el marco del PRONIE MEP-FO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214360"/>
            <a:ext cx="822960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CR" sz="3200" spc="-1" strike="noStrike">
                <a:solidFill>
                  <a:srgbClr val="000000"/>
                </a:solidFill>
                <a:latin typeface="Calibri"/>
              </a:rPr>
              <a:t>Actividad que utiliza las computadoras para plantear y resolver problemas o lograr objetivos de interés a través de procesos de razonamiento, diseño y organización de acciones posible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33:43Z</dcterms:created>
  <dc:creator>andres.rodriguez</dc:creator>
  <dc:description/>
  <dc:language>en-US</dc:language>
  <cp:lastModifiedBy>Andres.Rodriguez</cp:lastModifiedBy>
  <dcterms:modified xsi:type="dcterms:W3CDTF">2010-03-03T22:34:30Z</dcterms:modified>
  <cp:revision>174</cp:revision>
  <dc:subject/>
  <dc:title>Didáctica de la Programación bajo el contexto PRONIE MEP-FOD</dc:title>
</cp:coreProperties>
</file>